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CEE-C140-4F11-A2D6-38B2EFA13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110D-33D8-4F13-8D0A-16CD9EB2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C57-BFA5-4C3C-9838-E55D6092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466-51A7-45BD-9DD7-AEEDFC2C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12F-5DC9-452F-8362-323C01F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EC8-F08D-4007-9E0A-F963BDF8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454-B242-4E75-9311-C50BD1F8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78C-8F19-4372-A12D-2ED9D5AF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6D8A-C892-4B9C-8004-3C012D85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60A-F519-41D8-AE39-1D925AE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D6B2-D7C9-47F9-A0CB-C29CD814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701-AC6A-4882-876A-85C22E07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748-0F69-4063-A792-B154247482CC}" type="slidenum"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8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Wednesday, February 08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ff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tabilisation and protection of the SW MUST be managed and controlled through out the whole development cyckle 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Incremental integration sequence (layer dependancies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ff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Minion"/>
              </a:rPr>
              <a:t>SCRUM approach (i.e. target for next release etc.)</a:t>
            </a:r>
            <a:endParaRPr b="0" lang="en-US" sz="1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DB in BEI with Aries SVN 25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Workflow TBD in workshop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DL support 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Workareas/packages - TBC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0" lang="en-US" sz="28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Project organization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IM/BM/CM approach - TBD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Current status 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</a:rPr>
              <a:t>....</a:t>
            </a: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24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IM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8T14:53:46Z</dcterms:modified>
  <cp:revision>58</cp:revision>
  <dc:subject/>
  <dc:title>Jerry - DL</dc:title>
</cp:coreProperties>
</file>